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40A6-86C0-4752-B91A-9EB9CB2C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E3C-E765-4AB1-BC4B-3D5210D4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B600-E629-4739-8D48-A3340D65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B90-85DE-44C6-BBC6-B47B63E4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B64D-363B-4B8F-8C54-57FF9FAD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2F9C-12A4-4978-A4AA-888CB032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F28E-FDC0-462E-8D23-723DD645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07A2-47EA-416A-B990-6DAFFC14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3985-EE1B-48BB-87D2-54721014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0F8E-FD0E-4D07-82B0-11DF4ED6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FE3A-C3E2-4F95-915C-8A183167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5293-E652-4FD7-A6FE-189D629E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55A5-89AC-4476-818C-67D0E783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DA51-2F75-47D8-8507-7CDB625D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17A7-E058-4A01-BD65-8A13F0E0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4419-13C3-4EE4-A711-AF2C081D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657E-C0DF-4150-B623-8D06E71B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D5476-6619-472A-B07C-B27FD118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1AD7D-3E8D-4642-8ED9-CA33BF8E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41028-A3B3-4EC6-87AF-2EF27006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304C-DF6D-494A-9EEE-10848ACF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CB8AD-3D46-49B3-BBA1-EEAFF5D8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160-AB65-4329-8023-A16E6C9C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03A32-4DCA-4A18-A42C-32A421E7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EB799-9614-4FC7-BE95-B63676F2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21ADA-B0A0-47F1-BA35-197B2693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D8E1A-AD08-4F54-9E77-A1BD2DB9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14B2B-AAF1-4DCC-AF57-F5A093FC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7FE58-2E9F-413A-AA26-BBEE9340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2BBC2-063D-4FAE-8C28-DFC5540B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7AE71-1558-46C9-B584-0F5A4489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A6BA3-957D-4C33-A289-BE69C304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B3E2E-96FE-452A-8E83-2C4CCA62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1F4-8303-436C-8611-2DCDC145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4D55F-5597-4EE0-AC1E-4A6E673F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DF300-A809-4548-BBB2-C91872E0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39DA9-7D31-4731-A7E8-2A5170DC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73A5C-2E5C-493E-8874-C9317259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86A1C-9ACF-468E-BA63-F061FBE5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1F518-1959-4083-9F9D-032C4954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F48A9-0C9E-4424-9901-85CB0DAB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1CDAB-F020-43F0-B039-FC5690E3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DED89-62AE-4ABA-B736-282992F6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E1CF8-1E12-407C-8378-A0194DED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06D2-D79C-4E3B-9C8E-B5751FC4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2854E-5D3D-4D36-8A7D-297C57D3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105BB-1CC2-4A8A-9CFC-C3587A8C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62D1F-4E25-4C01-ABC0-96438B97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BC96B-1AEE-4661-B4AD-11D547A6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43612-E0CA-481D-9F09-886D3EBF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20FB3-CF9A-4E90-9A87-FCC59970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E2A59-C411-4EFD-94C6-C22D594A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C0D6E-1064-45D5-8ED1-25B419C2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7A602-7B22-4D35-99B5-EE00706C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36003-28EF-4E72-895E-BB89B9DD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56F-F6E3-4A62-822D-C2EC18B3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05C33-78D0-4368-BF6E-35DA2700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335BF-3E65-475D-9105-85F85080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BA51D-E2DC-43CD-874F-E8B6662F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A8FB5-38F0-49C8-9593-BBA2091D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89094-1D4D-40A2-AA4B-3BA09E2A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F02CA-FBDF-4989-837C-939973FA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A5B9B-E77E-42B4-8749-C902A641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233D1-6621-48DA-BF59-1BDD930F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367D1-E7B3-4AE6-9C0C-45CA2102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52F3B-9C6B-49F9-8024-C5190080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F4A3-155E-4458-BE2E-3AAE7890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8C609-BF83-4CE0-AD6C-1876B048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4C463-DF2E-408A-937E-771A68D1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6C38D-C376-4DCC-A196-12AF1057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380A-5C10-4256-8121-94FFAF0A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664-BBE4-4A2C-BA42-AECB4979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C944-B62E-4343-ABA3-8BB3AB801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17CC-BE24-4057-8C44-2F5FCE5B6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0649-E6B6-4FF5-B1B2-F34708E80FF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05DF-D114-4F0B-9B05-742A837777A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1EA6-701D-4D49-A8DA-6BE6795EAEE9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127B-5769-4CBF-B74F-91DF349C2C68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леточная теория строения организм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I. Этап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Развит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Карл Максимович Бэр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276720" y="1557360"/>
          <a:ext cx="244944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557360"/>
                    <a:ext cx="244944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45842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27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крыл яйцеклетку млекопитающих. Сформулировал положение, что клетка не только единица строения, но и единица развития живых организ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92 – 187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удольф Вирхов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419640" y="1484280"/>
          <a:ext cx="22287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22287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основал принцип преемственности клето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"каждая клетка из клетки"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436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21 – 190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Современная клеточная теория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Клетка представляет собой основу структурной и функциональной организации растений и живот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Клетки растений и животных сходны по строению и развиваются аналогично (путем деления исходной клетк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Клетки у всех организмов имеют мембранное стро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Ядро клетки представляет ее главный регуляторный органои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 Клеточное строение живых организмов — свидетельство единства их происхожд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396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15920" indent="-1015920" algn="ctr">
              <a:lnSpc>
                <a:spcPct val="90000"/>
              </a:lnSpc>
              <a:buClr>
                <a:srgbClr val="ff33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арождение понятий о клетк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492360" y="1557360"/>
          <a:ext cx="201168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557360"/>
                    <a:ext cx="20116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66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убликовал труд "Микрография", где изложил результаты своих исследований. Рассматривая тонкий срез пробки под микроскопом, он обнаружил существование множества мелких ячеек и назвал их "клетками". Так возник этот терм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8560" y="981000"/>
            <a:ext cx="142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5-17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Антони ван Левен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03640" y="1628640"/>
          <a:ext cx="249876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24987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1680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исал с большой точностью, наблюдаемые под микроскопом микроорганизмы. Он назвал их "микроскопическими животными", однако не отмечал их клеточного стро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37800" y="1125360"/>
            <a:ext cx="174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2  - 172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. 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Возникновен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Броу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419640" y="1628640"/>
          <a:ext cx="243180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28640"/>
                    <a:ext cx="243180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508752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8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первые описал ядро в растительной клетке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54520" y="1197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73 – 1858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Маттиас Шлейде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48000" y="1557360"/>
          <a:ext cx="278136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557360"/>
                    <a:ext cx="27813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38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делал первые шаги к раскрытию и пониманию роли яд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4880" y="105264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04 – 188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Теодор Шван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348000" y="1484280"/>
          <a:ext cx="22748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22748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3300"/>
                </a:solidFill>
                <a:latin typeface="Arial"/>
              </a:rPr>
              <a:t>1839 год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уя свои собственные данные и результат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. Шлейдена, обобщил знания о клетке и сформулировал клеточную теорию. Основное положение этой теории: клетка является элементарной единицей строения всех растительных и животных организмов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54880" y="1125360"/>
            <a:ext cx="1599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10 – 188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Клеточная теория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 Шванна - Шлейдена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Всем животным и растениям свойственно клеточное стро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Растут и развиваются растения и животные путем возникновения новых клет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Клетка является самой маленькой единицей живого, а целый организм – совокупность клеток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0:56:21Z</dcterms:created>
  <dc:creator>IPATOV</dc:creator>
  <dc:description/>
  <dc:language>en-US</dc:language>
  <cp:lastModifiedBy>IPATOV</cp:lastModifiedBy>
  <dcterms:modified xsi:type="dcterms:W3CDTF">2007-01-11T11:25:24Z</dcterms:modified>
  <cp:revision>6</cp:revision>
  <dc:subject/>
  <dc:title>Клеточная теория строения организмов</dc:title>
</cp:coreProperties>
</file>